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EA3-ACCE-4137-B612-C64849F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854-AE4B-4D13-A22A-CA7C985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9FD-42CC-41E8-BCB5-558ACF63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771-5200-4C3D-B37E-94E2459F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5FD-C498-43A5-A161-D152C4AF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1E2-FD7C-4A6B-93EE-C5A4780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C398-C51E-4518-9664-D2FE76DB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76A-382B-4BF1-91B6-8C9D8832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5422-E600-4004-ABC0-6E57EE3D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7A8-8E27-415A-BE2D-AA7A566C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21E6-B328-4C8A-A311-26C257C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6D3-3488-468B-AD02-D1C90CD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603D-1886-4EB0-8635-7B9F458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7713-C7DE-4C63-BEA7-006BD7E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C844-6566-4C96-8CDD-D1B7E81C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225D-8513-4750-B80E-97941998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56E-4743-40A0-91A7-922E1AE3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0AD-D9EB-470A-A523-A205F7B1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A96-A498-4BC2-9FA2-4158FF0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118-B533-4F2F-8B97-7606A0E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955-EF6E-424C-9CC1-F6E966E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34B-AF5E-4599-9533-DA104327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E9D-3A30-4A7D-8244-F08C258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018-FB3E-43D8-8A3E-5A8168F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1029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1030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1031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1032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1033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83A-B13C-479C-B6EF-242FC150D1E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BF6-E621-495C-AF0E-7DF3D99C271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marks are put around the beginning and the end of the exact words a person s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the door open,” Mom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sked, “Where are you going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the store,” explained M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houted, “Wait for me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 Ralp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Ralph 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Where are my new jea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ere are my new jeans?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6:13:23Z</dcterms:created>
  <dc:creator>GCSD</dc:creator>
  <dc:description/>
  <dc:language>en-US</dc:language>
  <cp:lastModifiedBy>teacher</cp:lastModifiedBy>
  <dcterms:modified xsi:type="dcterms:W3CDTF">2011-04-18T14:16:47Z</dcterms:modified>
  <cp:revision>3</cp:revision>
  <dc:subject/>
  <dc:title>Quotation Marks</dc:title>
</cp:coreProperties>
</file>